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55B-EE53-478B-B84E-1B5FF3FD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180-5BBE-4980-A1C4-061508D3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AE9-8D53-450B-8DC0-12F2FCF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21D-9F22-4B4F-966F-EF1F625A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0A9-EE75-4A41-95AF-BB50782B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E7B1-F4FA-4690-94C6-06AB5FA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D700-82B4-4615-8C5E-83B33B6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7D9-0CDD-40AE-BC04-E5574FF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1C7-F118-4107-B023-1EC3D20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1C1F-E209-4D84-8EB6-BF76D9CB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23E-E3A5-4097-ACB7-56BB7E1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41B-B23C-4768-B5C1-22814EB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ED6-6B31-452C-ACC9-BE3946A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8EBC-E3FF-497E-9B2A-B4C2FB01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32C-D470-40B2-A44F-BF6FFCE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A24-6AE1-471E-AEFA-C24BEF0D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5C7-2266-44E0-970A-F4FAD60E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C56-0C9A-47AC-B9E4-25588277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CF1-C8C3-440D-9D20-55DD5BA1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4ED-CFD1-468D-9CCB-8C25F75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858-1B56-4017-AD37-F16151A9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9F3-7232-40C7-8302-5578D64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6F2-7FA7-4B5F-8D69-D483B67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FE-56FF-4E76-8C4F-1DD9902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B03-2A8C-48EC-8955-4518A0335F81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55C-214C-450F-A66A-AE6476A0BF6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ttonclassroom.com/videoofcottonbeingcleaned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6665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re technological improvements always good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nder Pressu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n their first day, slaves were often tes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ck and clean cotton while being watch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059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li Whitney’s Next Big Th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798 - accepted offer from Thomas Jefferson to make rifles for arm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nted 10,000-15,000 rifles in two yea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t how??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2319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struction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paper must hav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LUE squ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LACK triang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 circ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PLE stick fig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ded in ha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cked in a neat pi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erchangeable Part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itney used interchangeable parts to create the guns fas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person has specific tas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gether they are assembled into a gu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viously everything was done individually, but now it was assembly lin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e BAD Example…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58672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i Whitney - 179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reased demand for cott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ile mills in Europe and in the Nor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CH faster than by h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35053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2590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Cotton the “fabric of our lives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809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at if it cost 100x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tton Craziness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1850, cotton prices dropped to 1% of what they cost in 178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86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tton = $191 million ex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/3 of U.S. ex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2589120"/>
            <a:ext cx="38862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ajor Increas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62520" y="3048120"/>
            <a:ext cx="4876560" cy="2824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39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aw Cott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91040" y="2884320"/>
            <a:ext cx="3695760" cy="2459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3886200" cy="258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685800"/>
            <a:ext cx="3809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ave's Bumpin' Shiz:Users:Dave:Desktop:Cotton Fields.mov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3520" y="25909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http://cottonclassroom.com/videoofcottonbeingcleaned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23:55Z</dcterms:created>
  <dc:creator>Dave Moffa</dc:creator>
  <dc:description/>
  <dc:language>en-US</dc:language>
  <cp:lastModifiedBy>Dave Moffa</cp:lastModifiedBy>
  <dcterms:modified xsi:type="dcterms:W3CDTF">2011-01-12T16:28:20Z</dcterms:modified>
  <cp:revision>23</cp:revision>
  <dc:subject/>
  <dc:title>Eli Whitney</dc:title>
</cp:coreProperties>
</file>